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E438-9108-4995-A2DB-68B01EA7E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0E0D-E3BB-4D61-A734-42CDA0825F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293-CE25-4C8C-815B-B66DD207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244C-B999-4EC2-B0A9-89BD316B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5B2-9EE3-4676-90F5-9201BAA5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568-D4FB-4A99-8020-EFC6DB3D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907E-DCD5-4892-A96D-6BEBEA38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573-026E-4B9D-BC4A-8F87313A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BEC4-97D0-4499-A1D7-78CEC2AF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F8DD-4EA8-4388-8D2E-BD8208EE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0C34-BB5F-488B-94A0-0DA2F030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6D4C-2F9B-40CA-B126-03D23638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3B5-87EA-4493-BA02-839929B4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815-F7CD-4672-94B2-31E0C3DB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6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0B4A-12E4-4ABD-958C-5BA97859487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76960" y="6408720"/>
            <a:ext cx="191448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76960" y="6408720"/>
            <a:ext cx="1914480" cy="289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16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7-07-03T09:09:32Z</dcterms:modified>
  <cp:revision>89</cp:revision>
  <dc:subject/>
  <dc:title>No Slide Title</dc:title>
</cp:coreProperties>
</file>